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7CB5-DFDE-4240-8867-F5880313CC9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6263-EC23-4D4C-9C40-16DA6BADCEB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F743-74F8-4C71-9B3B-19232E10444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24C-07BE-4515-B402-87FB3B51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C26-63D0-476A-85BA-A2392F9A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769-B819-4EC0-9EDC-A32D9E09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3F4-9F69-41C8-BD47-A9C25030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6EC-FCD3-4399-A12F-FF515533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237-616E-42F7-805C-C0602E70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89A-63B7-4347-A656-6C127A8E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D1B-B970-4FA1-B09B-3C4FFB06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B25-07C8-445D-914A-B61DA279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132-1711-466D-97FE-8231F752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8F8-966B-4AD0-89CE-A04FA6AF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B8D-0601-49D2-8D98-BCDDF96F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136C-96F0-4218-9998-A0E07D80A288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’occupazione nei  P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326880" y="28440"/>
            <a:ext cx="76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. Proposte metodologiche per la programmazione delle politiche e buone prati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CasellaDiTesto 1"/>
          <p:cNvSpPr/>
          <p:nvPr/>
        </p:nvSpPr>
        <p:spPr>
          <a:xfrm>
            <a:off x="1187280" y="1844640"/>
            <a:ext cx="66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agricoltu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vestimenti in azienda agricola e silvic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iuto avviamento attività imprenditor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lle aree rur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versificazione econom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per la popol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uppi operativi (ricerca e innovazio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di svil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ttangolo 2"/>
          <p:cNvSpPr/>
          <p:nvPr/>
        </p:nvSpPr>
        <p:spPr>
          <a:xfrm>
            <a:off x="250920" y="171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ccup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Calcolo dell’occupazione nei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ttangolo 1"/>
          <p:cNvSpPr/>
          <p:nvPr/>
        </p:nvSpPr>
        <p:spPr>
          <a:xfrm>
            <a:off x="1403280" y="119700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8) promuovere un’occupazione sostenibile e di qualità e sostenere la mobilità dei lavoratori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9) promuovere l’inclusione sociale e combattere la povertà e ogni discriminazione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ttangolo 1"/>
          <p:cNvSpPr/>
          <p:nvPr/>
        </p:nvSpPr>
        <p:spPr>
          <a:xfrm>
            <a:off x="1187280" y="473544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lementi strutturanti definiti nel quadro di regolamentazione. Per contribuire al finanziamento della strategia Europa 2020, i fondi SIE concentrano il sostegno su un numero limitato di obiettivi tematici comun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ttangolo 1"/>
          <p:cNvSpPr/>
          <p:nvPr/>
        </p:nvSpPr>
        <p:spPr>
          <a:xfrm>
            <a:off x="2050920" y="2133720"/>
            <a:ext cx="641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doperarsi per l’inclusione soci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la riduzione della povertà e lo sviluppo economico nelle zone rurali, con particolare riguardo ai seguenti aspetti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) favorire la diversificazione, la creazione e lo sviluppo di piccole imprese nonché de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ccup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) stimolare lo sviluppo locale nelle zone rural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) promuovere l’accessibilità, l’uso e la qualità delle tecnologie dell’informazione e della comunicazione (TIC) nelle zone rurali.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Immagine 1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3168720" cy="446724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2"/>
          <p:cNvSpPr/>
          <p:nvPr/>
        </p:nvSpPr>
        <p:spPr>
          <a:xfrm>
            <a:off x="5378760" y="1989000"/>
            <a:ext cx="33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rifica del raggiung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i valori obiettivo a livello d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cus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Immagine 3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Immagine 1" descr=""/>
          <p:cNvPicPr/>
          <p:nvPr/>
        </p:nvPicPr>
        <p:blipFill>
          <a:blip r:embed="rId2"/>
          <a:stretch/>
        </p:blipFill>
        <p:spPr>
          <a:xfrm>
            <a:off x="1692360" y="860400"/>
            <a:ext cx="4895640" cy="501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Immagine 2" descr=""/>
          <p:cNvPicPr/>
          <p:nvPr/>
        </p:nvPicPr>
        <p:blipFill>
          <a:blip r:embed="rId2"/>
          <a:stretch/>
        </p:blipFill>
        <p:spPr>
          <a:xfrm>
            <a:off x="2124000" y="1004760"/>
            <a:ext cx="5112000" cy="48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Immagine 1" descr=""/>
          <p:cNvPicPr/>
          <p:nvPr/>
        </p:nvPicPr>
        <p:blipFill>
          <a:blip r:embed="rId2"/>
          <a:stretch/>
        </p:blipFill>
        <p:spPr>
          <a:xfrm>
            <a:off x="5230800" y="1268280"/>
            <a:ext cx="3887640" cy="4241880"/>
          </a:xfrm>
          <a:prstGeom prst="rect">
            <a:avLst/>
          </a:prstGeom>
          <a:ln w="0">
            <a:noFill/>
          </a:ln>
        </p:spPr>
      </p:pic>
      <p:pic>
        <p:nvPicPr>
          <p:cNvPr id="151" name="Immagine 3" descr=""/>
          <p:cNvPicPr/>
          <p:nvPr/>
        </p:nvPicPr>
        <p:blipFill>
          <a:blip r:embed="rId3"/>
          <a:stretch/>
        </p:blipFill>
        <p:spPr>
          <a:xfrm>
            <a:off x="1116000" y="1274760"/>
            <a:ext cx="39337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Maria Carmela Macri</cp:lastModifiedBy>
  <dcterms:modified xsi:type="dcterms:W3CDTF">2017-12-14T12:53:04Z</dcterms:modified>
  <cp:revision>337</cp:revision>
  <dc:subject/>
  <dc:title>Quali politiche e quali governances per i piccoli comuni</dc:title>
</cp:coreProperties>
</file>